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6314-8100-4661-A233-E965BD4AE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FD32-A116-4FA2-B173-EEE177898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0F68-F480-422A-B7DF-A5907D14E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FFD4-F792-4F2B-8D57-467D72E02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08F7-30C3-4BF6-A30C-366567D42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5216-7AD0-4D22-B063-E1890CE34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072B-730F-41A5-B880-EAC1326BE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1933-6CCF-4171-882F-D67D0479C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9DB4-3232-4F9A-A37D-EDD2C1DAB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3D77-5676-4E6E-884C-E2E9DCD5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CCA4-EFA3-4C8F-A3C7-56CF7097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CBFE-A8C0-4164-83B2-6CBB436E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99A2B-08B0-41F1-B984-43A1C7094E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o01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Ro10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Ro11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Ro12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Ro13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Ro14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Ro02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Ro03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Ro04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Ro05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Ro06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Ro07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o08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Ro09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9T14:59:05Z</dcterms:created>
  <dc:creator>fabio.medessi</dc:creator>
  <dc:description/>
  <dc:language>en-US</dc:language>
  <cp:lastModifiedBy>fabio.medessi</cp:lastModifiedBy>
  <dcterms:modified xsi:type="dcterms:W3CDTF">2010-07-19T15:04:39Z</dcterms:modified>
  <cp:revision>2</cp:revision>
  <dc:subject/>
  <dc:title>Presentazione di PowerPoint</dc:title>
</cp:coreProperties>
</file>